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ricardo%20arjona%20intocable-%20mojado.wav" ContentType="audio/x-wav"/>
  <Override PartName="/ppt/media/image30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3C6-5AF5-448B-9831-2642B1D6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91E-77AE-45C5-912F-24C90058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2AE-93DA-49BD-9779-57A535B2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310-0CEB-441B-80A2-8E5CA5FB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AE7-990A-423E-84B0-7AE7DDB0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3F5-30C7-4A97-9872-53136638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2DF-FD5F-49A9-86A9-A73DD0A4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D19-AF8D-40EF-A0A3-610B0300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748-6DB7-419D-8C8E-66C3DBB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9F5-49AC-4229-8589-40B979C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46D-E529-42F8-8751-B54EA64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CB8-E31E-4CC7-B38E-0409D86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AB1-8C50-401E-A626-3B133A240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ardo%20arjona%20intocable-%20mojado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TOCABLE… “MOJAD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2500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icardo Arj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25480"/>
            <a:ext cx="9325080" cy="513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08760" y="333360"/>
            <a:ext cx="133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</a:rPr>
              <a:t>No uses el rató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</a:rPr>
              <a:t>por fav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  <p:sndAc>
      <p:stSnd>
        <p:snd r:embed="rId2" name="ricardo%20arjona%20intocable-%20mojad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6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9600" y="64911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perforó la frontera como p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78120" y="621648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luna suave se desliz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cualquier cornisa sin permiso algu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59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40320" y="6216480"/>
            <a:ext cx="46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qué el mojado preci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obar con visas que no es de Nept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416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29160" y="0"/>
            <a:ext cx="5514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32720" cy="6924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31960" y="649116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 mojado tiene ganas de seca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5040" y="6216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 mojado está mojado</a:t>
            </a: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or las lágrimas que bota la nostalg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595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mojad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indocumentado, carga el b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e legal no cargaría ni obli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95640" y="65372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 suplicio de un papel  lo ha convertido en fugitivo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305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5640" y="623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o es de aquí, porque su nom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aparece en los archivos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6520" y="0"/>
            <a:ext cx="4497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3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83600" y="64911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es de allá porque se fu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4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9640" y="56674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luna suave se des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cualquier corni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permiso algun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546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5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566100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r qué el moj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cisa comprobar con visa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e no es de Nept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623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jado sabe a menti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 verdad sabe a tristeza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0880" y="0"/>
            <a:ext cx="3813120" cy="61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0040" cy="619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6216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ansiedad de ver un primo  y soñar con la vereda que conduce hasta tu cas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31960" y="649116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jado, mojado de tanto llor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8008" r="0" b="0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54840" y="649116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biendo que en algún lugar te espera un be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80320" y="621648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haciendo</a:t>
            </a: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ausa desde el día que te marchast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5430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38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6200" y="981000"/>
            <a:ext cx="8497800" cy="5659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15200" y="6216480"/>
            <a:ext cx="50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luna suave se desliza por cualquier corni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permiso algu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1557080" cy="6923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8920" y="649116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qué el mojado precisa comprobar con visas que no es de Nept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93400" y="653724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visa universal se extiende el día que nacem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159240" y="64911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Black"/>
              </a:rPr>
              <a:t>y caduca en la muer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0104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qué te persiguen, mojado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l Cónsul de los Cielos ya te dio perm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720" cy="537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172360" cy="539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8244000" cy="5666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81080" y="2935440"/>
            <a:ext cx="9325080" cy="439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87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0960" y="357336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Hecho en Cádiz el 17/0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46440" y="4149720"/>
            <a:ext cx="45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"/>
              </a:rPr>
              <a:t>Dedicado a ellos,pidiéndoles perd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"/>
              </a:rPr>
              <a:t>en nombre del “Primer Mundo”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0" y="626760"/>
            <a:ext cx="45957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acó un par de camisas, un sombrero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 vocación de aventurero, seis consej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fotos, mil recuerdos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acó sus ganas de quedarse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 condición de trasformar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 el hombre que soñó y no ha logrado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jo adiós con una mueca disfrazad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sonrisa y le suplicó a su Dios crucificad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 la repisa el resguardo de los suy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perforó la frontera como pu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 la luna suave se desliz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r cualquier cornisa sin permiso alguno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r qué el mojado precis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obar con visas que no es de Neptu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mojado tiene ganas de secar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mojado está mojad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r las lágrimas que bota la nostalgia; el mojado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indocumentado, carga el b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legal no cargarí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 obligado el suplicio de u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 ha convertido en fugitivo,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1360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no es de aquí, porque su nomb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aparece en los archivos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i es de allá porque se fu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la luna suave se desliza por cualquier cornisa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permiso alguno, por qué el moj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ecisa comprobar con vis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no es de Neptu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ojado sabe a mentir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u verdad sabe a tristez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ansiedad de ver un pr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soñar con la vereda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conduce hasta tu cas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ojado,mojado de tanto llorar, sabiend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n algún lugar te espera un beso, haciend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usa desde el dia que te marchas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la luna suave se desliza por cualquier cornisa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permiso alguno, por qué el mojado precisa comproba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visas que no es de Neptu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la visa universal se extiende el dia que nacemo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caduca en la muerte, por qué te persiguen, mojad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el cónsul de los cielos ya te dio perm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9600" y="649116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516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LA EUROPA DEL FUTURO SERÁ, NOS GUSTE O NO,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A EUROPA MULTIETNICA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J. GOYTISO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6520" y="260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157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93680" y="73080"/>
            <a:ext cx="73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ambién nuestros abuelos fueron emigrantes, y nadie los rechaz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43280" y="465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in pala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69440" y="664380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be0e3"/>
                </a:solidFill>
                <a:latin typeface="Arial"/>
              </a:rPr>
              <a:t>joaqu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6308640"/>
            <a:ext cx="44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acó un par de camisas, un sombrero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576000" cy="638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24320" y="616572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vocación de aventurero, seis consej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4520" y="649116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otos, mil recuer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Malgache girls waiting for fish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27280" y="5942160"/>
            <a:ext cx="35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acó sus ganas de quedar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condición de transformar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5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6680" y="60930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el hombre que soñó y no ha lograd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5372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jo adiós con una mueca disfrazada de sonris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2320" y="6216480"/>
            <a:ext cx="40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le suplicó a su Dios crucificad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la repisa el resguardo de los suy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720" y="3502080"/>
            <a:ext cx="3635280" cy="335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1:35:18Z</dcterms:created>
  <dc:creator>Gonzalo Perez</dc:creator>
  <dc:description/>
  <dc:language>en-US</dc:language>
  <cp:lastModifiedBy>Joaquin Fernandez-Caro Gomez</cp:lastModifiedBy>
  <dcterms:modified xsi:type="dcterms:W3CDTF">2008-06-23T10:48:01Z</dcterms:modified>
  <cp:revision>17</cp:revision>
  <dc:subject/>
  <dc:title>Diapositiva 1</dc:title>
</cp:coreProperties>
</file>